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0D14-0CB2-4256-942E-C63C769C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222-C950-46EC-9B31-05E19B7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7E6-8B76-4F2B-94B4-BD58AF97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663-6050-4E41-B174-897D94A1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C27-14DA-44CA-AAB8-B3FEB6A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46D-BC9E-4266-9EC7-C120089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F75-9B5B-4337-9EDD-E06161F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9D1-E426-48F8-893B-10F138D6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D911-C388-4660-A9E2-8CA30A1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F66-EF78-4E99-AA4A-7EAC0D3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38F-9C15-4383-875D-94F9B621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80E-D74A-47F5-BF30-3EEC8D3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DA3-0307-4071-81EC-634A299E24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edrick Barret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'm good a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ing to gir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ting f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foot b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favorite website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isback 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space 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tu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Favorite Food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 do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e do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zz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Favorite Teachers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 Web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J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J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f I could I would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 10 years 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have a house n a car 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01:43Z</dcterms:created>
  <dc:creator>764232</dc:creator>
  <dc:description/>
  <dc:language>en-US</dc:language>
  <cp:lastModifiedBy>764232</cp:lastModifiedBy>
  <dcterms:modified xsi:type="dcterms:W3CDTF">2008-10-28T16:06:00Z</dcterms:modified>
  <cp:revision>4</cp:revision>
  <dc:subject/>
  <dc:title>Fredrick Barrett</dc:title>
</cp:coreProperties>
</file>